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E6A-E18E-40BC-8354-6CAA96B6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BAB-E14A-41D8-BBD3-36B5A6B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C40-BE72-4D74-A34C-E1B48B50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938-920C-4AB8-AE45-05CF41B1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2DBC-EE08-42F8-8723-F7050BE1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78CC-D63A-424C-BC84-54E38C53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4F24-9818-4E0A-A48D-227E1A7F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F184-39EF-4240-A6F6-DD891E76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DDE5-1EAE-4E21-A0FB-08585E8B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A468-FA6A-47F8-9AEE-0095CA5B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B26B-8EC8-4E3B-9FC9-AA5D3313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8C8-5334-465E-877D-8576F45E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DCA7-0466-46BB-819A-590C43FD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25B1-E587-4C71-BAAA-87D260E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EBAB-F04F-4190-BB48-30CEFEE6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E362-3163-44D0-BDFA-4345D4E7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5AAA-6168-43BC-930F-96B14312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0BE-CB81-40E9-BC14-151D8B8A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E88-5187-48EB-88FC-C34AB977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4FC-8013-4F6C-B837-C9698284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4E3-4A4C-4A86-83E9-EA121A04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8AD-4BEB-4685-B433-8BC77F97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258-F6B3-4092-BD7E-512B7D93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E57-0FCA-4D63-B91F-80DD310F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57C3-1AA9-4CD2-B72B-A0D87AAD55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945E-F738-4BDC-B4ED-F0595C6C08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iles-hs.k12.il.us/rutgle/peanut_06.pdf" TargetMode="External"/><Relationship Id="rId2" Type="http://schemas.openxmlformats.org/officeDocument/2006/relationships/hyperlink" Target="http://www.niles-hs.k12.il.us/rutgle/peanut_06.pdf" TargetMode="External"/><Relationship Id="rId3" Type="http://schemas.openxmlformats.org/officeDocument/2006/relationships/hyperlink" Target="http://www.niles-hs.k12.il.us/rutgle/peanut_06.pdf" TargetMode="External"/><Relationship Id="rId4" Type="http://schemas.openxmlformats.org/officeDocument/2006/relationships/hyperlink" Target="http://www.niles-hs.k12.il.us/rutgle/peanut_06.pdf" TargetMode="External"/><Relationship Id="rId5" Type="http://schemas.openxmlformats.org/officeDocument/2006/relationships/hyperlink" Target="http://www.niles-hs.k12.il.us/rutgle/mandmpeanutbutter_06.pdf" TargetMode="External"/><Relationship Id="rId6" Type="http://schemas.openxmlformats.org/officeDocument/2006/relationships/hyperlink" Target="http://www.niles-hs.k12.il.us/rutgle/mandmpeanutbutter_06.pdf" TargetMode="External"/><Relationship Id="rId7" Type="http://schemas.openxmlformats.org/officeDocument/2006/relationships/hyperlink" Target="http://www.niles-hs.k12.il.us/rutgle/mandmpeanutbutter_06.pdf" TargetMode="External"/><Relationship Id="rId8" Type="http://schemas.openxmlformats.org/officeDocument/2006/relationships/hyperlink" Target="http://www.niles-hs.k12.il.us/rutgle/mandmpeanutbutter_06.pdf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i Square Analy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hi square analysis allows you to use statistics to determine if your data “good” or n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ur fruit fly labs we are using laws of probability to determine possible outcomes for genetic cro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will we know if our fruit fly data is “good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Conduct the Analysi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5562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the hypothesis value take 10009/16 = 6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2071800"/>
          <a:ext cx="8229600" cy="31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71800"/>
                    <a:ext cx="822960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0" t="0" r="51165" b="0"/>
          <a:stretch/>
        </p:blipFill>
        <p:spPr>
          <a:xfrm>
            <a:off x="2743200" y="304920"/>
            <a:ext cx="2819520" cy="1409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the chi square formula compute the chi square total for this cros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610 - 5630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5630 = .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881 - 1877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1877 = .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896 - 1877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1877 = .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622 - 626)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 626 = .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.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degrees of freedo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0" t="0" r="51165" b="0"/>
          <a:stretch/>
        </p:blipFill>
        <p:spPr>
          <a:xfrm>
            <a:off x="2819520" y="304920"/>
            <a:ext cx="2819160" cy="14097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the chi square formula compute the chi square total for this cros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610 - 5630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5630 = .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881 - 1877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1877 = .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896 - 1877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1877 = .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622 - 626)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 626 = .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.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degrees of freedom?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flipH="1" flipV="1">
            <a:off x="1295280" y="1676160"/>
            <a:ext cx="423072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1828800"/>
            <a:ext cx="1598760" cy="3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10240" y="16826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27880" y="1866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4440" y="127728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CHI-SQUARE DISTRIBUTION 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5120" y="127800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80880" y="2057400"/>
          <a:ext cx="8213760" cy="4510080"/>
        </p:xfrm>
        <a:graphic>
          <a:graphicData uri="http://schemas.openxmlformats.org/drawingml/2006/table">
            <a:tbl>
              <a:tblPr/>
              <a:tblGrid>
                <a:gridCol w="1067040"/>
                <a:gridCol w="680760"/>
                <a:gridCol w="584280"/>
                <a:gridCol w="584280"/>
                <a:gridCol w="584280"/>
                <a:gridCol w="584280"/>
                <a:gridCol w="680760"/>
                <a:gridCol w="681120"/>
                <a:gridCol w="681120"/>
                <a:gridCol w="723960"/>
                <a:gridCol w="680760"/>
                <a:gridCol w="681120"/>
              </a:tblGrid>
              <a:tr h="10303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pt Hypothesi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ject Hypothes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bability (p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grees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eedom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.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.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.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6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.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0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.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reporting chi square data use the following formula sentence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degrees of freedom, my chi square value i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gives me a p value betwee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%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%, I theref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my null hypoth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sentence would go in the “reults” section of your formal la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explanation of the significance of this data would go in the “discussion” section of the formal la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ing this statistic up on the chi square distribution table tells us the follow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 value read off the table places our chi square number of .30  close to .95 or 9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means that 95% of the time when our observed data is this close to our expected data, this deviation is due to random ch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therefore accept our null hypoth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critical value at which we would reject the null hypothes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hree degrees of freedom this value for our chi square is &gt; 7.8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f our chi square value was 8.0 with 4 degrees of freedom, do we accept or reject the null hypothes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pt, since the critical value is &gt;9.48 with 4 degrees of freed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we use the chi square test in a different sort of lab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were testing the effect of light on plant growth, how could the chi square analysis be u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is case our experimental group is plants grown in the dark and the control plants are grown in the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would your expected data b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 plants grown in the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would your observed group b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s grown in the da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expect to accept or reject the null hypothes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 &amp; m 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Peanut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m&amp;m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 data from Mars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Peanut butter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m&amp;m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 data from Mars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ollowing formula is us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57800" cy="2017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5800" y="3276720"/>
            <a:ext cx="746748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hypothesis is supported by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claiming that mating is random and so is segregation and independent assort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hypothesis is not supported b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seeing that the deviation between observed and expected is very far apart…something non-random must be occurring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-9040320"/>
            <a:ext cx="380880" cy="10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st statistic is compared to a theoretical probability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der to use this distribution properly you need to determine the degrees of free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grees of freedom is the number of phenotypic possibilities in your cross minus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level of significance read from the table is greater than .05 or 5% then your hypothesis is accepted and the data is use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ypothesis is termed the null hypothesis which states that there is no substantial statistical deviation between observed and expected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t’s look at a fruit fly cro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43400" y="23623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6576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dy, ey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40384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191120" y="518148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19320" y="5943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1: all w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90920" y="2286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1 x F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1066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10080" y="4267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828800" y="4419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2362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5181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5029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ysis of the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e the numbers are in, you have to determine the cross that you were us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expected outcome of this cros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/16 wild type: 3/16 normal body eyeless: 3/16 black body wild eyes: 1/16 black body eyel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Conduct the Analysi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905120"/>
          <a:ext cx="81532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81532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09480" y="5562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the hypothesis value take 10009/16 = 6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18:21:15Z</dcterms:created>
  <dc:creator>Ruth Gleicher</dc:creator>
  <dc:description/>
  <dc:language>en-US</dc:language>
  <cp:lastModifiedBy>Kimberly Area School District</cp:lastModifiedBy>
  <dcterms:modified xsi:type="dcterms:W3CDTF">2008-12-17T15:36:44Z</dcterms:modified>
  <cp:revision>10</cp:revision>
  <dc:subject/>
  <dc:title>Chi Square Analysis</dc:title>
</cp:coreProperties>
</file>